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B9C-BF17-4025-9E6B-675B9A74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CD6-7657-4B0D-B5CF-CF92AEE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5B7-1A6F-47E6-962D-0F756DB7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8BA-AF48-450A-8CF1-A39278D5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AFC-3A08-4A57-B149-4DE4FDAB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51D3-2F9E-461D-B4FC-4EF217B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D95-E76E-4962-B104-496BE34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572-72D9-4971-B4AB-08FDACD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F57-17FA-417F-AE32-2077854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0652-329A-4EEF-8A1E-C87DDA3B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B4D-B522-4677-9A8F-F02206E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1A5-1EE6-4AF0-9A4C-CEB7B26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5B4-E512-4144-93C3-61C381F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A51-03D0-4002-9F88-62B487A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C13B-221E-4FB2-8378-7493DD1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3FFD-598A-430A-917A-25AAF19E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3A45-B9A8-444E-B466-3E08FEC4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8C7-4BD4-43D5-B4B9-4DC7A27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6CB-F5EF-4E27-A4D0-3C43705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1C5-980B-4D37-A1AA-CB12689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71E-8060-47F3-9DA6-1354223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C3D-37FC-492F-AFC8-A11CFF2A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C15-B3F0-499A-858E-3D1B52B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75E-0706-44A0-B54D-C5712E0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4DF-2A0F-4922-BF2F-B68B508E7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13F4-F61C-41EF-A559-5F1CAFFF2E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334800" y="189000"/>
            <a:ext cx="2160720" cy="79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战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90440" y="5445000"/>
            <a:ext cx="4969080" cy="43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负责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190440" y="6165720"/>
            <a:ext cx="4969080" cy="43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目类别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816600" y="5445000"/>
            <a:ext cx="4969080" cy="43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名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816600" y="6165720"/>
            <a:ext cx="4969080" cy="43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联系方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5159520" y="1197000"/>
            <a:ext cx="1873080" cy="996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案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334800" y="1341360"/>
            <a:ext cx="326232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7"/>
          <p:cNvSpPr/>
          <p:nvPr/>
        </p:nvSpPr>
        <p:spPr>
          <a:xfrm>
            <a:off x="334800" y="1341360"/>
            <a:ext cx="32594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研图片，与对方公司负责人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388800" y="4149720"/>
            <a:ext cx="3176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446724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446724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应用照片，签订合同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861696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861696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信，反馈，前后变化的佐证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6"/>
          <p:cNvSpPr/>
          <p:nvPr/>
        </p:nvSpPr>
        <p:spPr>
          <a:xfrm>
            <a:off x="4518000" y="4221000"/>
            <a:ext cx="317808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8616960" y="4221000"/>
            <a:ext cx="317664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案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"/>
          <p:cNvSpPr/>
          <p:nvPr/>
        </p:nvSpPr>
        <p:spPr>
          <a:xfrm>
            <a:off x="334800" y="1341360"/>
            <a:ext cx="326232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334800" y="1341360"/>
            <a:ext cx="32594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研图片，与对方公司负责人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388800" y="4149720"/>
            <a:ext cx="3176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446724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446724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应用照片，签订合同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861696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861696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信，反馈，前后变化的佐证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4518000" y="4221000"/>
            <a:ext cx="317808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8"/>
          <p:cNvSpPr/>
          <p:nvPr/>
        </p:nvSpPr>
        <p:spPr>
          <a:xfrm>
            <a:off x="8616960" y="4221000"/>
            <a:ext cx="317664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细节描述，两三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商业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322200" y="1962000"/>
            <a:ext cx="11561760" cy="43182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商业模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318960" y="1197000"/>
            <a:ext cx="11549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式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334800" y="2335320"/>
            <a:ext cx="4894560" cy="26175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重要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334800" y="5229360"/>
            <a:ext cx="4894560" cy="11379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5807160" y="3114720"/>
            <a:ext cx="183492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7823160" y="3114720"/>
            <a:ext cx="183204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9912240" y="3141720"/>
            <a:ext cx="188136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7"/>
          <p:cNvSpPr/>
          <p:nvPr/>
        </p:nvSpPr>
        <p:spPr>
          <a:xfrm>
            <a:off x="5807160" y="2303640"/>
            <a:ext cx="5986440" cy="6807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媒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334800" y="1197000"/>
            <a:ext cx="11489040" cy="6811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国家级媒体报道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省级媒体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334800" y="2335320"/>
            <a:ext cx="4894560" cy="26175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重要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334800" y="5229360"/>
            <a:ext cx="4894560" cy="11379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5807160" y="2346480"/>
            <a:ext cx="183492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7823160" y="2346480"/>
            <a:ext cx="183204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9912240" y="2373480"/>
            <a:ext cx="188136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334800" y="1197000"/>
            <a:ext cx="11489040" cy="6811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国家级奖项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省级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5807160" y="5718240"/>
            <a:ext cx="1833480" cy="5778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781992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993456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肯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334800" y="2335320"/>
            <a:ext cx="4894560" cy="26175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专家认可佐证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334800" y="5229360"/>
            <a:ext cx="4894560" cy="11379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5807160" y="2346480"/>
            <a:ext cx="183492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认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7823160" y="2346480"/>
            <a:ext cx="183204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可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9912240" y="2373480"/>
            <a:ext cx="188136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协会夸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334800" y="1197000"/>
            <a:ext cx="11489040" cy="6811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获业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国家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一致肯定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5807160" y="5718240"/>
            <a:ext cx="1833480" cy="5778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9"/>
          <p:cNvSpPr/>
          <p:nvPr/>
        </p:nvSpPr>
        <p:spPr>
          <a:xfrm>
            <a:off x="781992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993456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客户认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334800" y="2335320"/>
            <a:ext cx="4894560" cy="26175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签约仪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34800" y="5229360"/>
            <a:ext cx="4894560" cy="11379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5807160" y="2346480"/>
            <a:ext cx="183492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7823160" y="2346480"/>
            <a:ext cx="183204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9912240" y="2373480"/>
            <a:ext cx="1881360" cy="3252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334800" y="1197000"/>
            <a:ext cx="11489040" cy="6811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作企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，已签订合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份，合同金额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5807160" y="5718240"/>
            <a:ext cx="1833480" cy="5778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9"/>
          <p:cNvSpPr/>
          <p:nvPr/>
        </p:nvSpPr>
        <p:spPr>
          <a:xfrm>
            <a:off x="781992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0"/>
          <p:cNvSpPr/>
          <p:nvPr/>
        </p:nvSpPr>
        <p:spPr>
          <a:xfrm>
            <a:off x="9934560" y="5734080"/>
            <a:ext cx="183528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团队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"/>
          <p:cNvSpPr/>
          <p:nvPr/>
        </p:nvSpPr>
        <p:spPr>
          <a:xfrm>
            <a:off x="334800" y="1125360"/>
            <a:ext cx="3100680" cy="3556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负责人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324000" y="4797360"/>
            <a:ext cx="3124080" cy="17398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3790800" y="1125360"/>
            <a:ext cx="1835280" cy="3556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员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5807160" y="1125360"/>
            <a:ext cx="1832040" cy="3556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员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"/>
          <p:cNvSpPr/>
          <p:nvPr/>
        </p:nvSpPr>
        <p:spPr>
          <a:xfrm>
            <a:off x="7896240" y="1150920"/>
            <a:ext cx="1881000" cy="35305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员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"/>
          <p:cNvSpPr/>
          <p:nvPr/>
        </p:nvSpPr>
        <p:spPr>
          <a:xfrm>
            <a:off x="3792600" y="4797360"/>
            <a:ext cx="1833480" cy="17398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9"/>
          <p:cNvSpPr/>
          <p:nvPr/>
        </p:nvSpPr>
        <p:spPr>
          <a:xfrm>
            <a:off x="5805360" y="4813200"/>
            <a:ext cx="1833840" cy="17240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0"/>
          <p:cNvSpPr/>
          <p:nvPr/>
        </p:nvSpPr>
        <p:spPr>
          <a:xfrm>
            <a:off x="7920000" y="4813200"/>
            <a:ext cx="1833480" cy="17240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9983880" y="1150920"/>
            <a:ext cx="1881000" cy="35305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员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1"/>
          <p:cNvSpPr/>
          <p:nvPr/>
        </p:nvSpPr>
        <p:spPr>
          <a:xfrm>
            <a:off x="10007640" y="4813200"/>
            <a:ext cx="1835280" cy="17240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顾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334800" y="1268280"/>
            <a:ext cx="3449880" cy="2818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322200" y="4221000"/>
            <a:ext cx="3462480" cy="22431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领域国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人计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4371840" y="1268280"/>
            <a:ext cx="3449880" cy="2818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4359240" y="4221000"/>
            <a:ext cx="3462480" cy="22431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领域国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人计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8399520" y="1268280"/>
            <a:ext cx="3449520" cy="28180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8386920" y="4221000"/>
            <a:ext cx="3462120" cy="22431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领域国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人计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职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荣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财务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334800" y="2048040"/>
            <a:ext cx="3449880" cy="20383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营业执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322200" y="4221000"/>
            <a:ext cx="3462480" cy="23194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股权占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4371840" y="2048040"/>
            <a:ext cx="3449880" cy="20383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入柱状图（按年份，包括后三年预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4359240" y="4221000"/>
            <a:ext cx="3462480" cy="23194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入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3"/>
          <p:cNvSpPr/>
          <p:nvPr/>
        </p:nvSpPr>
        <p:spPr>
          <a:xfrm>
            <a:off x="8399520" y="2048040"/>
            <a:ext cx="3449520" cy="20383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支出柱状图（按年份，包括后三年预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5"/>
          <p:cNvSpPr/>
          <p:nvPr/>
        </p:nvSpPr>
        <p:spPr>
          <a:xfrm>
            <a:off x="8386920" y="4221000"/>
            <a:ext cx="3462120" cy="23209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支出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343080" y="1197000"/>
            <a:ext cx="11505960" cy="6253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已盈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万，具有较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766800" y="1417680"/>
            <a:ext cx="47530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600960" y="1417680"/>
            <a:ext cx="475272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未来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334800" y="1652760"/>
            <a:ext cx="3449880" cy="2433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322200" y="4221000"/>
            <a:ext cx="3462480" cy="2316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8"/>
          <p:cNvSpPr/>
          <p:nvPr/>
        </p:nvSpPr>
        <p:spPr>
          <a:xfrm>
            <a:off x="4371840" y="1652760"/>
            <a:ext cx="3449880" cy="2433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4359240" y="4221000"/>
            <a:ext cx="3462480" cy="23148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8399520" y="1652760"/>
            <a:ext cx="3449520" cy="243360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5"/>
          <p:cNvSpPr/>
          <p:nvPr/>
        </p:nvSpPr>
        <p:spPr>
          <a:xfrm>
            <a:off x="8386920" y="4221000"/>
            <a:ext cx="3462120" cy="23353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3"/>
          <p:cNvSpPr/>
          <p:nvPr/>
        </p:nvSpPr>
        <p:spPr>
          <a:xfrm>
            <a:off x="334800" y="1197000"/>
            <a:ext cx="5313600" cy="5334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为主，图片、表格为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最好是结论性的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6600960" y="1197000"/>
            <a:ext cx="5241960" cy="5334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详细材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3"/>
          <p:cNvSpPr/>
          <p:nvPr/>
        </p:nvSpPr>
        <p:spPr>
          <a:xfrm>
            <a:off x="334800" y="1197000"/>
            <a:ext cx="5313600" cy="5334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为主，图片、表格为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最好是结论性的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6600960" y="1197000"/>
            <a:ext cx="5241960" cy="5334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4"/>
          <p:cNvSpPr/>
          <p:nvPr/>
        </p:nvSpPr>
        <p:spPr>
          <a:xfrm>
            <a:off x="334800" y="333360"/>
            <a:ext cx="3024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佐证材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3"/>
          <p:cNvSpPr/>
          <p:nvPr/>
        </p:nvSpPr>
        <p:spPr>
          <a:xfrm>
            <a:off x="11663280" y="6597720"/>
            <a:ext cx="52884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0" y="0"/>
            <a:ext cx="12171240" cy="6858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项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xxxxxxxx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页，封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34800" y="1125360"/>
            <a:ext cx="11522160" cy="5472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36600" y="1127160"/>
            <a:ext cx="4967280" cy="2289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团队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336600" y="3646440"/>
            <a:ext cx="496728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名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34800" y="4149720"/>
            <a:ext cx="496728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法人姓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6672240" y="3718080"/>
            <a:ext cx="496728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册时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6672240" y="4222800"/>
            <a:ext cx="496728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册地点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1"/>
          <p:cNvSpPr/>
          <p:nvPr/>
        </p:nvSpPr>
        <p:spPr>
          <a:xfrm>
            <a:off x="6672240" y="1127160"/>
            <a:ext cx="4967280" cy="2289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公司致力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六边形 12"/>
          <p:cNvSpPr/>
          <p:nvPr/>
        </p:nvSpPr>
        <p:spPr>
          <a:xfrm>
            <a:off x="1343160" y="4765680"/>
            <a:ext cx="927000" cy="7938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6e6e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1039680" y="5805360"/>
            <a:ext cx="153360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核心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六边形 14"/>
          <p:cNvSpPr/>
          <p:nvPr/>
        </p:nvSpPr>
        <p:spPr>
          <a:xfrm>
            <a:off x="3432240" y="4765680"/>
            <a:ext cx="927000" cy="7938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6e6e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3127320" y="5805360"/>
            <a:ext cx="1633680" cy="61452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研发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博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六边形 16"/>
          <p:cNvSpPr/>
          <p:nvPr/>
        </p:nvSpPr>
        <p:spPr>
          <a:xfrm>
            <a:off x="5591160" y="4765680"/>
            <a:ext cx="927000" cy="7938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6e6e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5288040" y="5805360"/>
            <a:ext cx="153504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款主营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六边形 18"/>
          <p:cNvSpPr/>
          <p:nvPr/>
        </p:nvSpPr>
        <p:spPr>
          <a:xfrm>
            <a:off x="7896240" y="4759200"/>
            <a:ext cx="927000" cy="7938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6e6e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7593120" y="5799240"/>
            <a:ext cx="1533240" cy="3682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合作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六边形 20"/>
          <p:cNvSpPr/>
          <p:nvPr/>
        </p:nvSpPr>
        <p:spPr>
          <a:xfrm>
            <a:off x="10128240" y="4768920"/>
            <a:ext cx="927000" cy="7938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6e6e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9609120" y="5808600"/>
            <a:ext cx="1938240" cy="5763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签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万合同金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国家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334800" y="1341360"/>
            <a:ext cx="543276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6456240" y="1341360"/>
            <a:ext cx="543240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38080" y="1628640"/>
            <a:ext cx="4438800" cy="22910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习近平总书记讲话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568440" y="4495680"/>
            <a:ext cx="49672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习近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6456240" y="1341360"/>
            <a:ext cx="2764080" cy="15764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国家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6456240" y="3110040"/>
            <a:ext cx="2764080" cy="15764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浙江省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6456240" y="4878360"/>
            <a:ext cx="2764080" cy="15764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州市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9220320" y="1486080"/>
            <a:ext cx="2635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关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见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9264600" y="3286080"/>
            <a:ext cx="26352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关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见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9253440" y="5013360"/>
            <a:ext cx="26352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关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见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场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334800" y="1341360"/>
            <a:ext cx="543276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6456240" y="1341360"/>
            <a:ext cx="543240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838080" y="1628640"/>
            <a:ext cx="4438800" cy="22910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产值发展趋势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568440" y="4495680"/>
            <a:ext cx="49672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6953400" y="1701720"/>
            <a:ext cx="4437000" cy="2289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家预测讲话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6681960" y="4568760"/>
            <a:ext cx="49672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究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7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8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334800" y="1341360"/>
            <a:ext cx="326232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334800" y="1341360"/>
            <a:ext cx="32594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450720" y="3718080"/>
            <a:ext cx="30290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痛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406440" y="4863960"/>
            <a:ext cx="31780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XXXXXXXXXXXXXXXXXXXXX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展开讲两三行，用数据和材料讲痛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446724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446724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4583160" y="3718080"/>
            <a:ext cx="30290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痛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4538520" y="4863960"/>
            <a:ext cx="3176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XXXXXXXXXXXXXXXXXXXXX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展开讲两三行，用数据和材料讲痛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861696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861696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/>
          <p:cNvSpPr/>
          <p:nvPr/>
        </p:nvSpPr>
        <p:spPr>
          <a:xfrm>
            <a:off x="8732880" y="3718080"/>
            <a:ext cx="30290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痛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8688240" y="4863960"/>
            <a:ext cx="3176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XXXXXXXXXXXXXXXXXXXXXXXXXXX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展开讲两三行，用数据和材料讲痛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334800" y="1341360"/>
            <a:ext cx="326232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7"/>
          <p:cNvSpPr/>
          <p:nvPr/>
        </p:nvSpPr>
        <p:spPr>
          <a:xfrm>
            <a:off x="334800" y="1341360"/>
            <a:ext cx="32594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实物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388800" y="4149720"/>
            <a:ext cx="3176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名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特性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446724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446724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实物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8616960" y="1341360"/>
            <a:ext cx="326088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8616960" y="1341360"/>
            <a:ext cx="3257640" cy="229068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实物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8670960" y="4149720"/>
            <a:ext cx="31780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名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特性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518000" y="4076640"/>
            <a:ext cx="31780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名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特性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3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竞品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322200" y="1268280"/>
            <a:ext cx="1154736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638440" y="2492280"/>
          <a:ext cx="6825960" cy="2666880"/>
        </p:xfrm>
        <a:graphic>
          <a:graphicData uri="http://schemas.openxmlformats.org/drawingml/2006/table">
            <a:tbl>
              <a:tblPr/>
              <a:tblGrid>
                <a:gridCol w="1706760"/>
                <a:gridCol w="1707120"/>
                <a:gridCol w="1705320"/>
                <a:gridCol w="17067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司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对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对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自己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产品寿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污染程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转化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辐射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数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5" name="矩形 23"/>
          <p:cNvSpPr/>
          <p:nvPr/>
        </p:nvSpPr>
        <p:spPr>
          <a:xfrm>
            <a:off x="1217520" y="1557360"/>
            <a:ext cx="9667800" cy="66816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高于行业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4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5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4"/>
          <p:cNvSpPr/>
          <p:nvPr/>
        </p:nvSpPr>
        <p:spPr>
          <a:xfrm>
            <a:off x="334800" y="331920"/>
            <a:ext cx="3024360" cy="72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布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322200" y="1268280"/>
            <a:ext cx="11547360" cy="511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322200" y="2205000"/>
            <a:ext cx="4788000" cy="22766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利证书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322200" y="1413000"/>
            <a:ext cx="11549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专利证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软件著作权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7607160" y="2205000"/>
            <a:ext cx="4249800" cy="22766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文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5232240" y="2205000"/>
            <a:ext cx="2173320" cy="2276640"/>
          </a:xfrm>
          <a:prstGeom prst="rect">
            <a:avLst/>
          </a:prstGeom>
          <a:solidFill>
            <a:srgbClr val="cecee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软著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34800" y="4869000"/>
          <a:ext cx="11534760" cy="1143000"/>
        </p:xfrm>
        <a:graphic>
          <a:graphicData uri="http://schemas.openxmlformats.org/drawingml/2006/table">
            <a:tbl>
              <a:tblPr/>
              <a:tblGrid>
                <a:gridCol w="1187280"/>
                <a:gridCol w="3256200"/>
                <a:gridCol w="709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利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利所有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项目组成员姓名标红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75" name="矩形 22"/>
          <p:cNvSpPr/>
          <p:nvPr/>
        </p:nvSpPr>
        <p:spPr>
          <a:xfrm>
            <a:off x="10488600" y="333360"/>
            <a:ext cx="142236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11855520" y="6597720"/>
            <a:ext cx="336600" cy="260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4T23:33:39Z</dcterms:created>
  <dc:creator>Administrator</dc:creator>
  <dc:description/>
  <dc:language>en-US</dc:language>
  <cp:lastModifiedBy>范超</cp:lastModifiedBy>
  <dcterms:modified xsi:type="dcterms:W3CDTF">2022-03-14T23:33:39Z</dcterms:modified>
  <cp:revision>1</cp:revision>
  <dc:subject/>
  <dc:title>XXX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CA383B4A97241049FE02940C8DF4D73</vt:lpwstr>
  </property>
  <property fmtid="{D5CDD505-2E9C-101B-9397-08002B2CF9AE}" pid="3" name="KSOProductBuildVer">
    <vt:lpwstr>2052-11.1.0.11294</vt:lpwstr>
  </property>
</Properties>
</file>